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626-465E-4139-B519-5E2FFCE0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9C7-986D-406B-BC3A-4E083B50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0A3-7B8B-4430-B4F7-2DAE0040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070-CC97-4E54-83DD-35E738D7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A48-BAAD-436A-8C0F-225DBB38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57D-5C8E-4E6C-A609-717FC8F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051-2BF0-4AAB-9AB7-EDEADDA8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0C6-0C04-48E4-ACF0-EAA65EF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44F-1C8D-410A-80CC-A8051C43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D7E-D7AB-42BF-95C2-3DA6B59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6B4-3A29-4E08-AA44-0A53502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1F9-1D57-4A42-B836-B76A702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1533-577A-4B18-822E-5EC27A190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chievethecore.org/page/33/words-we-live-by-your-annotated-guide-to-the-constitution-by-linda-r-monk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achievethecore.org/page/33/words-we-live-by-your-annotated-guide-to-the-constitution-by-linda-r-monk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870360" y="22096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MC900435240[1]"/>
          <p:cNvPicPr/>
          <p:nvPr/>
        </p:nvPicPr>
        <p:blipFill>
          <a:blip r:embed="rId1"/>
          <a:stretch/>
        </p:blipFill>
        <p:spPr>
          <a:xfrm>
            <a:off x="609480" y="228600"/>
            <a:ext cx="285444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85800" y="1371600"/>
            <a:ext cx="8458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TFL’s                    Alignment of the NATIONAL STANDARDS for Learning Languages with the COMMON CORE             State Standar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6089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 rot="20861400">
            <a:off x="1404720" y="297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tiple Reading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lent and/or a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095880" y="4267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110000">
            <a:off x="5816160" y="403380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y Acade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2971800" y="990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2743200" y="79056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2743200" y="114300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66880" y="1649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838080" y="60199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da R. Monk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ds We Live By: Your Annotated Guide to the Constit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ing Main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letters to paragraphs:  have student match main ideas of paragraphs to the appropriate para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urpose and/or target audience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paragraph or sentences in ow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rr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238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ive meaning from text not s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 Who are 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he peopl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87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 higher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 rot="378600">
            <a:off x="4419720" y="32004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plying supporting evidence or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9810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In paragraph 3, what evidence is in this paragraph to support Marshal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claim about the evolving nature of the constit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yzing the development of the tex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28840" y="2209680"/>
            <a:ext cx="76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author develop the argument tha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 is a living, evolving doc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quoting this particular justice of the Supre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t effective in promoting the auth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discuss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he peopl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rive meaning of words/structures from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636840" y="2133720"/>
            <a:ext cx="837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s in paragraph 1 help to underst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eaning of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sovereignt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e examples listed in the last paragrap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e word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rag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ne 3, to whom or to what does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effect of the repetition of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cog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99920" y="1981080"/>
            <a:ext cx="831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or words in paragraph 2 would be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 for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ere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(s) in Marshal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quote refer to someo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established or started something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grate and evaluate content from diverse media &amp;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19120" y="2286000"/>
            <a:ext cx="823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how the notion of who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e peopl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d over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we need a Bill of R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creen Shot 2013-10-24 at 7.36.15 PM.pn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Screen Shot 2013-10-24 at 7.36.48 PM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124080"/>
            <a:ext cx="8053560" cy="1733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 the claims and arguments of th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33520" y="5486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chievethecore.org/page/33/words-we-live-by-your-annotated-guide-to-the-constitution-by-linda-r-mo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54000" y="0"/>
            <a:ext cx="92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520" y="379440"/>
            <a:ext cx="93837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the shifts in World Language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74760" y="1413000"/>
            <a:ext cx="8532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hallenging texts:  </a:t>
            </a:r>
            <a:r>
              <a:rPr b="0" lang="ja-JP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</a:t>
            </a:r>
            <a:r>
              <a:rPr b="0" lang="ja-JP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xts (created for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speakers) are a rich source of current language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2819520"/>
            <a:ext cx="838188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 reading comprehension strategies--how to dig into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ext and read to find deeper mea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3733920"/>
            <a:ext cx="868680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writing and speaking tasks that require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tudents to evaluate and integrate evidence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gleaned from multiple sources (audio, video, &amp; print medi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" y="5181480"/>
            <a:ext cx="88581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written and oral tasks that require students to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vance an argument (persuasion) or explain or shed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ight on a topic (explanator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C Reading Tas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y supporting details o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development of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 meaning of words/structures from context &amp; prio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relationship of paragraphs/sentences to each other in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900435240[1]"/>
          <p:cNvPicPr/>
          <p:nvPr/>
        </p:nvPicPr>
        <p:blipFill>
          <a:blip r:embed="rId1"/>
          <a:stretch/>
        </p:blipFill>
        <p:spPr>
          <a:xfrm>
            <a:off x="152280" y="304920"/>
            <a:ext cx="19227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728640" y="91440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of point of view on content &amp; styl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cog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and evaluate content from diverse media and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e the claims and arguments of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 two or more texts on sam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successfully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21:52:42Z</dcterms:created>
  <dc:creator>elaine</dc:creator>
  <dc:description/>
  <dc:language>en-US</dc:language>
  <cp:lastModifiedBy>Jenine Nowakowski</cp:lastModifiedBy>
  <dcterms:modified xsi:type="dcterms:W3CDTF">2016-01-27T16:01:40Z</dcterms:modified>
  <cp:revision>95</cp:revision>
  <dc:subject/>
  <dc:title>Slide 1</dc:title>
</cp:coreProperties>
</file>